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705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905120" y="4210200"/>
            <a:ext cx="6705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2720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41320" y="1981080"/>
            <a:ext cx="32720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905120" y="4210200"/>
            <a:ext cx="32720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341320" y="4210200"/>
            <a:ext cx="32720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2158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72400" y="1981080"/>
            <a:ext cx="2158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39680" y="1981080"/>
            <a:ext cx="2158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905120" y="4210200"/>
            <a:ext cx="2158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72400" y="4210200"/>
            <a:ext cx="2158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39680" y="4210200"/>
            <a:ext cx="2158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92F7-7601-49CB-A74D-106B37D2D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905120" y="1981080"/>
            <a:ext cx="670536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A100-8AD5-42E7-AC27-643D5D7D3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705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8F5C-29A1-4152-A4C3-E5411C22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2720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341320" y="1981080"/>
            <a:ext cx="32720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4817-A897-4D42-8EBA-3E5C2942F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342F-145E-4FF9-A164-8803BE732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3619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B096-9ABE-4B1A-B109-7D741363D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2720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41320" y="1981080"/>
            <a:ext cx="32720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05120" y="4210200"/>
            <a:ext cx="32720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528E-9B95-4B1B-9C8C-9F19A873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905120" y="1981080"/>
            <a:ext cx="670536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2720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41320" y="1981080"/>
            <a:ext cx="32720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41320" y="4210200"/>
            <a:ext cx="32720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ECDE-DC5A-44AC-9BB2-3963C132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2720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41320" y="1981080"/>
            <a:ext cx="32720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905120" y="4210200"/>
            <a:ext cx="6705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D4DE-0318-4F85-99B5-27E1CA7E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705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905120" y="4210200"/>
            <a:ext cx="6705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0281-3533-4B83-8E4B-E0408E4A3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2720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41320" y="1981080"/>
            <a:ext cx="32720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905120" y="4210200"/>
            <a:ext cx="32720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341320" y="4210200"/>
            <a:ext cx="32720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C440-E118-46C4-A8EB-24FC320A2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2158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172400" y="1981080"/>
            <a:ext cx="2158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439680" y="1981080"/>
            <a:ext cx="2158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905120" y="4210200"/>
            <a:ext cx="2158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172400" y="4210200"/>
            <a:ext cx="2158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439680" y="4210200"/>
            <a:ext cx="2158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3F53-52FB-4B64-B096-2835289FB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705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2720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341320" y="1981080"/>
            <a:ext cx="32720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3619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2720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41320" y="1981080"/>
            <a:ext cx="32720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905120" y="4210200"/>
            <a:ext cx="32720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2720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41320" y="1981080"/>
            <a:ext cx="32720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41320" y="4210200"/>
            <a:ext cx="32720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2720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41320" y="1981080"/>
            <a:ext cx="32720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905120" y="4210200"/>
            <a:ext cx="6705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C2a" descr=""/>
          <p:cNvPicPr/>
          <p:nvPr/>
        </p:nvPicPr>
        <p:blipFill>
          <a:blip r:embed="rId2"/>
          <a:stretch/>
        </p:blipFill>
        <p:spPr>
          <a:xfrm>
            <a:off x="0" y="0"/>
            <a:ext cx="1828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905120" y="1981080"/>
            <a:ext cx="6705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>
              <a:lnSpc>
                <a:spcPct val="120000"/>
              </a:lnSpc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653760" indent="-2512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005840" indent="-2008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407960" indent="-2008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1810440" indent="-2008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1810440" indent="-2008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1810440" indent="-2008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32920" y="380880"/>
            <a:ext cx="606960" cy="58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ff"/>
                </a:solidFill>
                <a:latin typeface="隶书"/>
                <a:ea typeface="隶书"/>
              </a:rPr>
              <a:t>第七章  实验</a:t>
            </a:r>
            <a:r>
              <a:rPr b="1" lang="zh-CN" sz="2800" spc="-1" strike="noStrike">
                <a:solidFill>
                  <a:srgbClr val="ffccff"/>
                </a:solidFill>
                <a:latin typeface="隶书"/>
                <a:ea typeface="隶书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33520" y="68580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474840" y="434340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Ca" descr=""/>
          <p:cNvPicPr/>
          <p:nvPr/>
        </p:nvPicPr>
        <p:blipFill>
          <a:blip r:embed="rId2"/>
          <a:stretch/>
        </p:blipFill>
        <p:spPr>
          <a:xfrm>
            <a:off x="5638680" y="0"/>
            <a:ext cx="35053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5F635-F903-4BF3-91F9-DF868F5F12AF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685800" y="12949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9.xml"/><Relationship Id="rId5" Type="http://schemas.openxmlformats.org/officeDocument/2006/relationships/slide" Target="slide9.xml"/><Relationship Id="rId6" Type="http://schemas.openxmlformats.org/officeDocument/2006/relationships/slide" Target="slide9.xml"/><Relationship Id="rId7" Type="http://schemas.openxmlformats.org/officeDocument/2006/relationships/slide" Target="slide15.xml"/><Relationship Id="rId8" Type="http://schemas.openxmlformats.org/officeDocument/2006/relationships/slide" Target="slide20.xml"/><Relationship Id="rId9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Arial"/>
                <a:ea typeface="黑体"/>
              </a:rPr>
              <a:t>第七章</a:t>
            </a:r>
            <a:r>
              <a:rPr b="1" lang="zh-CN" sz="40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ffcc00"/>
                </a:solidFill>
                <a:latin typeface="Arial"/>
                <a:ea typeface="黑体"/>
              </a:rPr>
              <a:t>实验</a:t>
            </a:r>
            <a:r>
              <a:rPr b="1" lang="zh-CN" sz="40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endParaRPr b="1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7760" y="2133720"/>
            <a:ext cx="4800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901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8000"/>
                </a:solidFill>
                <a:uFillTx/>
                <a:latin typeface="Times New Roman"/>
                <a:hlinkClick r:id="rId1" action="ppaction://hlinksldjump"/>
              </a:rPr>
              <a:t>7.1   </a:t>
            </a:r>
            <a:r>
              <a:rPr b="1" lang="zh-CN" sz="3600" spc="-1" strike="noStrike" u="sng">
                <a:solidFill>
                  <a:srgbClr val="008000"/>
                </a:solidFill>
                <a:uFillTx/>
                <a:latin typeface="Times New Roman"/>
                <a:hlinkClick r:id="rId2" action="ppaction://hlinksldjump"/>
              </a:rPr>
              <a:t>D/A</a:t>
            </a:r>
            <a:r>
              <a:rPr b="1" lang="zh-CN" sz="3600" spc="-1" strike="noStrike" u="sng">
                <a:solidFill>
                  <a:srgbClr val="008000"/>
                </a:solidFill>
                <a:uFillTx/>
                <a:latin typeface="Times New Roman"/>
                <a:hlinkClick r:id="rId3" action="ppaction://hlinksldjump"/>
              </a:rPr>
              <a:t>转换实验</a:t>
            </a:r>
            <a:endParaRPr b="1" lang="en-US" sz="3600" spc="-1" strike="noStrike">
              <a:solidFill>
                <a:srgbClr val="66cc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8000"/>
                </a:solidFill>
                <a:uFillTx/>
                <a:latin typeface="Times New Roman"/>
                <a:hlinkClick r:id="rId4" action="ppaction://hlinksldjump"/>
              </a:rPr>
              <a:t>7.2    </a:t>
            </a:r>
            <a:r>
              <a:rPr b="1" lang="zh-CN" sz="3200" spc="-1" strike="noStrike" u="sng">
                <a:solidFill>
                  <a:srgbClr val="008000"/>
                </a:solidFill>
                <a:uFillTx/>
                <a:latin typeface="Times New Roman"/>
                <a:hlinkClick r:id="rId5" action="ppaction://hlinksldjump"/>
              </a:rPr>
              <a:t>A/D</a:t>
            </a:r>
            <a:r>
              <a:rPr b="1" lang="zh-CN" sz="3200" spc="-1" strike="noStrike" u="sng">
                <a:solidFill>
                  <a:srgbClr val="008000"/>
                </a:solidFill>
                <a:uFillTx/>
                <a:latin typeface="Times New Roman"/>
                <a:hlinkClick r:id="rId6" action="ppaction://hlinksldjump"/>
              </a:rPr>
              <a:t>转换实验</a:t>
            </a: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8000"/>
                </a:solidFill>
                <a:uFillTx/>
                <a:latin typeface="Times New Roman"/>
                <a:hlinkClick r:id="rId7" action="ppaction://hlinksldjump"/>
              </a:rPr>
              <a:t>7.3    运算程序练习</a:t>
            </a: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8000"/>
                </a:solidFill>
                <a:uFillTx/>
                <a:latin typeface="Times New Roman"/>
                <a:hlinkClick r:id="rId8" action="ppaction://hlinksldjump"/>
              </a:rPr>
              <a:t>7.4    综合实验</a:t>
            </a: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809880" y="1218960"/>
            <a:ext cx="3276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ccff"/>
                </a:solidFill>
                <a:latin typeface="Times New Roman"/>
                <a:ea typeface="楷体_GB2312"/>
              </a:rPr>
              <a:t>2. </a:t>
            </a:r>
            <a:r>
              <a:rPr b="1" lang="zh-CN" sz="3200" spc="-1" strike="noStrike">
                <a:solidFill>
                  <a:srgbClr val="66ccff"/>
                </a:solidFill>
                <a:latin typeface="Times New Roman"/>
                <a:ea typeface="楷体_GB2312"/>
              </a:rPr>
              <a:t>实验器材</a:t>
            </a: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05120" y="228600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单片机仿真器一台，直流稳压电源一台，万用表一块，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DAC0809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一块，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74LS0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四或非门一块，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0k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电位计一只，面包板一块，导线若干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809880" y="1219320"/>
            <a:ext cx="2895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ccff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66ccff"/>
                </a:solidFill>
                <a:latin typeface="Times New Roman"/>
                <a:ea typeface="楷体_GB2312"/>
              </a:rPr>
              <a:t>实验内容</a:t>
            </a: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2209680"/>
            <a:ext cx="6324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设计和调试一个能把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DC0809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通道上的模拟电压转换成数字量，将转换结果存入内部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RAM20H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单元的程序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123720" y="121932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ccff"/>
                </a:solidFill>
                <a:latin typeface="Times New Roman"/>
                <a:ea typeface="楷体_GB2312"/>
              </a:rPr>
              <a:t>4. </a:t>
            </a:r>
            <a:r>
              <a:rPr b="1" lang="zh-CN" sz="3200" spc="-1" strike="noStrike">
                <a:solidFill>
                  <a:srgbClr val="66ccff"/>
                </a:solidFill>
                <a:latin typeface="Times New Roman"/>
                <a:ea typeface="楷体_GB2312"/>
              </a:rPr>
              <a:t>实验步骤</a:t>
            </a: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05120" y="2209680"/>
            <a:ext cx="67816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按图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7-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正确接线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编写程序，并将机器码送入单片机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运行程序，查看内存单元，看是否能正确读出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/D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转换结果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666880" y="59436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7-2  803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DC0809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的连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92896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362320" y="1371600"/>
          <a:ext cx="5638680" cy="413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371600"/>
                    <a:ext cx="5638680" cy="41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504960" y="1066680"/>
            <a:ext cx="3429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ccff"/>
                </a:solidFill>
                <a:latin typeface="Times New Roman"/>
                <a:ea typeface="楷体_GB2312"/>
              </a:rPr>
              <a:t>5. </a:t>
            </a:r>
            <a:r>
              <a:rPr b="1" lang="zh-CN" sz="3200" spc="-1" strike="noStrike">
                <a:solidFill>
                  <a:srgbClr val="66ccff"/>
                </a:solidFill>
                <a:latin typeface="Times New Roman"/>
                <a:ea typeface="楷体_GB2312"/>
              </a:rPr>
              <a:t>思考和讨论</a:t>
            </a: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209680"/>
            <a:ext cx="69343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欲将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个通道上的模拟量转换成数字量，硬件电路应如何修改？程序应如何编写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7278840" y="6322680"/>
            <a:ext cx="790200" cy="398880"/>
          </a:xfrm>
          <a:prstGeom prst="rect">
            <a:avLst/>
          </a:prstGeom>
          <a:noFill/>
          <a:ln cap="rnd" w="381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80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7.3  </a:t>
            </a: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运算程序练习</a:t>
            </a: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	</a:t>
            </a:r>
            <a:endParaRPr b="1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04760" y="1980720"/>
            <a:ext cx="60195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ccff"/>
                </a:solidFill>
                <a:latin typeface="Times New Roman"/>
                <a:ea typeface="楷体_GB2312"/>
              </a:rPr>
              <a:t>1. </a:t>
            </a:r>
            <a:r>
              <a:rPr b="1" lang="zh-CN" sz="3200" spc="-1" strike="noStrike">
                <a:solidFill>
                  <a:srgbClr val="66ccff"/>
                </a:solidFill>
                <a:latin typeface="Times New Roman"/>
                <a:ea typeface="楷体_GB2312"/>
              </a:rPr>
              <a:t>实验目的</a:t>
            </a: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281952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熟悉双字节无符号数乘法程序、双字节有符号数乘法程序、双字节无符号数除法程序的编写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>
            <a:hlinkClick r:id="rId1" action="ppaction://hlinksldjump"/>
          </p:cNvPr>
          <p:cNvSpPr/>
          <p:nvPr/>
        </p:nvSpPr>
        <p:spPr>
          <a:xfrm>
            <a:off x="7380360" y="6322680"/>
            <a:ext cx="1095120" cy="398880"/>
          </a:xfrm>
          <a:prstGeom prst="rect">
            <a:avLst/>
          </a:prstGeom>
          <a:noFill/>
          <a:ln cap="rnd" w="381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8000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580920" y="1294920"/>
            <a:ext cx="3429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ccff"/>
                </a:solidFill>
                <a:latin typeface="Times New Roman"/>
                <a:ea typeface="楷体_GB2312"/>
              </a:rPr>
              <a:t>2. </a:t>
            </a:r>
            <a:r>
              <a:rPr b="1" lang="zh-CN" sz="3200" spc="-1" strike="noStrike">
                <a:solidFill>
                  <a:srgbClr val="66ccff"/>
                </a:solidFill>
                <a:latin typeface="Times New Roman"/>
                <a:ea typeface="楷体_GB2312"/>
              </a:rPr>
              <a:t>实验器材</a:t>
            </a: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057400" y="259092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单片机仿真器一台，直流稳压电源一台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580920" y="1143000"/>
            <a:ext cx="3429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ccff"/>
                </a:solidFill>
                <a:latin typeface="Times New Roman"/>
                <a:ea typeface="楷体_GB2312"/>
              </a:rPr>
              <a:t>3. </a:t>
            </a:r>
            <a:r>
              <a:rPr b="1" lang="zh-CN" sz="3200" spc="-1" strike="noStrike">
                <a:solidFill>
                  <a:srgbClr val="66ccff"/>
                </a:solidFill>
                <a:latin typeface="Times New Roman"/>
                <a:ea typeface="楷体_GB2312"/>
              </a:rPr>
              <a:t>实验内容</a:t>
            </a: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05120" y="2057400"/>
            <a:ext cx="6553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编写双字节无符号数乘法程序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编写双字节有符号数乘法程序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编写双字节无符号数除法程序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809880" y="1295280"/>
            <a:ext cx="3353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ccff"/>
                </a:solidFill>
                <a:latin typeface="Times New Roman"/>
                <a:ea typeface="楷体_GB2312"/>
              </a:rPr>
              <a:t>4. </a:t>
            </a:r>
            <a:r>
              <a:rPr b="1" lang="zh-CN" sz="3200" spc="-1" strike="noStrike">
                <a:solidFill>
                  <a:srgbClr val="66ccff"/>
                </a:solidFill>
                <a:latin typeface="Times New Roman"/>
                <a:ea typeface="楷体_GB2312"/>
              </a:rPr>
              <a:t>实验步骤</a:t>
            </a: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057400" y="2438280"/>
            <a:ext cx="61722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编写双字节无符号数乘法程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编写双字节有符号数乘法程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编写双字节无符号数除法程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657240" y="1447560"/>
            <a:ext cx="3352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ccff"/>
                </a:solidFill>
                <a:latin typeface="Times New Roman"/>
                <a:ea typeface="楷体_GB2312"/>
              </a:rPr>
              <a:t>5. </a:t>
            </a:r>
            <a:r>
              <a:rPr b="1" lang="zh-CN" sz="2800" spc="-1" strike="noStrike">
                <a:solidFill>
                  <a:srgbClr val="66ccff"/>
                </a:solidFill>
                <a:latin typeface="Times New Roman"/>
                <a:ea typeface="楷体_GB2312"/>
              </a:rPr>
              <a:t>思考与讨论</a:t>
            </a:r>
            <a:endParaRPr b="1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33720" y="2666880"/>
            <a:ext cx="61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多字节无符号数乘法程序应如何编写？双字节有符号数除法程序应如何编写？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7278840" y="6322680"/>
            <a:ext cx="790200" cy="398880"/>
          </a:xfrm>
          <a:prstGeom prst="rect">
            <a:avLst/>
          </a:prstGeom>
          <a:noFill/>
          <a:ln cap="rnd" w="381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80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7.1  D/A</a:t>
            </a: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转换实验</a:t>
            </a: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	</a:t>
            </a:r>
            <a:endParaRPr b="1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580920" y="1905120"/>
            <a:ext cx="3124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ccff"/>
                </a:solidFill>
                <a:latin typeface="Times New Roman"/>
                <a:ea typeface="楷体_GB2312"/>
              </a:rPr>
              <a:t>1. </a:t>
            </a:r>
            <a:r>
              <a:rPr b="1" lang="zh-CN" sz="3200" spc="-1" strike="noStrike">
                <a:solidFill>
                  <a:srgbClr val="66ccff"/>
                </a:solidFill>
                <a:latin typeface="Times New Roman"/>
                <a:ea typeface="楷体_GB2312"/>
              </a:rPr>
              <a:t>实验目的</a:t>
            </a: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2895480"/>
            <a:ext cx="678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熟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DAC083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的内部结构和原理，熟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CS-5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对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DAC083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的引脚接线以及编程方法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>
            <a:hlinkClick r:id="rId1" action="ppaction://hlinksldjump"/>
          </p:cNvPr>
          <p:cNvSpPr/>
          <p:nvPr/>
        </p:nvSpPr>
        <p:spPr>
          <a:xfrm>
            <a:off x="7380360" y="6322680"/>
            <a:ext cx="1095120" cy="398880"/>
          </a:xfrm>
          <a:prstGeom prst="rect">
            <a:avLst/>
          </a:prstGeom>
          <a:noFill/>
          <a:ln cap="rnd" w="381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8000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imes New Roman"/>
              </a:rPr>
              <a:t>7.4  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</a:rPr>
              <a:t>综合实验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</a:rPr>
              <a:t>	</a:t>
            </a:r>
            <a:endParaRPr b="1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733920" y="1904760"/>
            <a:ext cx="3200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ccff"/>
                </a:solidFill>
                <a:latin typeface="Times New Roman"/>
                <a:ea typeface="楷体_GB2312"/>
              </a:rPr>
              <a:t>1. </a:t>
            </a:r>
            <a:r>
              <a:rPr b="1" lang="zh-CN" sz="3200" spc="-1" strike="noStrike">
                <a:solidFill>
                  <a:srgbClr val="66ccff"/>
                </a:solidFill>
                <a:latin typeface="Times New Roman"/>
                <a:ea typeface="楷体_GB2312"/>
              </a:rPr>
              <a:t>实验目的</a:t>
            </a: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28800" y="289548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为了提高综合程序设计的能力，熟悉外部中断和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口的应用；初步学会实时控制系统的设计和调试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7380360" y="6322680"/>
            <a:ext cx="1095120" cy="398880"/>
          </a:xfrm>
          <a:prstGeom prst="rect">
            <a:avLst/>
          </a:prstGeom>
          <a:noFill/>
          <a:ln cap="rnd" w="381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8000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504960" y="1143000"/>
            <a:ext cx="3352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ccff"/>
                </a:solidFill>
                <a:latin typeface="Times New Roman"/>
                <a:ea typeface="楷体_GB2312"/>
              </a:rPr>
              <a:t>2. </a:t>
            </a:r>
            <a:r>
              <a:rPr b="1" lang="zh-CN" sz="3200" spc="-1" strike="noStrike">
                <a:solidFill>
                  <a:srgbClr val="66ccff"/>
                </a:solidFill>
                <a:latin typeface="Times New Roman"/>
                <a:ea typeface="楷体_GB2312"/>
              </a:rPr>
              <a:t>实验器材</a:t>
            </a: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05120" y="2209680"/>
            <a:ext cx="670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单片机仿真器一台，直流稳压电源一台，万用表一块，红、绿、黄发光二极管各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只，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00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的电阻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个，面包板一块，导线若干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809520" y="838080"/>
            <a:ext cx="3505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ccff"/>
                </a:solidFill>
                <a:latin typeface="Times New Roman"/>
                <a:ea typeface="楷体_GB2312"/>
              </a:rPr>
              <a:t>3. </a:t>
            </a:r>
            <a:r>
              <a:rPr b="1" lang="zh-CN" sz="3200" spc="-1" strike="noStrike">
                <a:solidFill>
                  <a:srgbClr val="66ccff"/>
                </a:solidFill>
                <a:latin typeface="Times New Roman"/>
                <a:ea typeface="楷体_GB2312"/>
              </a:rPr>
              <a:t>实验内容</a:t>
            </a: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52480" y="1905120"/>
            <a:ext cx="708660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设计和调试一个交通灯控制程序。功能如下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道和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道均有车辆要求通过时，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道轮流放行。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道放行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分钟（调试时改为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秒钟），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道放行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分钟（调试时改为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秒钟）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一道有车辆而另一道无车辆（由开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981080" y="1600200"/>
            <a:ext cx="6782040" cy="22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zh-CN" sz="2800" spc="-1" strike="noStrike" baseline="-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zh-CN" sz="2800" spc="-1" strike="noStrike" baseline="-3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控制），交通灯控制系统能立即让有车道放行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有紧急车辆要求通过时，系统要能禁止普通车辆通过，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道均为红灯，紧急车由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zh-CN" sz="2800" spc="-1" strike="noStrike" baseline="-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开关模拟，有紧急车时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NT</a:t>
            </a:r>
            <a:r>
              <a:rPr b="0" lang="zh-CN" sz="2800" spc="-1" strike="noStrike" baseline="-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为低电平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绿灯转换成红灯时，黄灯亮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秒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352680" y="1142640"/>
            <a:ext cx="320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ccff"/>
                </a:solidFill>
                <a:latin typeface="Times New Roman"/>
                <a:ea typeface="楷体_GB2312"/>
              </a:rPr>
              <a:t>4. </a:t>
            </a:r>
            <a:r>
              <a:rPr b="1" lang="zh-CN" sz="3200" spc="-1" strike="noStrike">
                <a:solidFill>
                  <a:srgbClr val="66ccff"/>
                </a:solidFill>
                <a:latin typeface="Times New Roman"/>
                <a:ea typeface="楷体_GB2312"/>
              </a:rPr>
              <a:t>实验步骤</a:t>
            </a: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2057400"/>
            <a:ext cx="6858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按图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7-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进行接线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根据图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7-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和程序流程图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7-4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图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7-5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编写相应的程序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将程序进行汇编，把机器码送入单片机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对程序进行调试，直到满足要求为止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438280" y="579132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7-3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交通灯控制线路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24160" y="20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905120" y="1143000"/>
          <a:ext cx="6705360" cy="41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143000"/>
                    <a:ext cx="670536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7028640" y="990720"/>
            <a:ext cx="9118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7-4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交通灯控制程序流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76520" y="16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797200" y="457200"/>
          <a:ext cx="3679920" cy="609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7200" y="457200"/>
                    <a:ext cx="367992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181920" y="838080"/>
            <a:ext cx="146808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7-5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交通灯控制的中断程序流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>
            <a:hlinkClick r:id="rId1" action="ppaction://hlinksldjump"/>
          </p:cNvPr>
          <p:cNvSpPr/>
          <p:nvPr/>
        </p:nvSpPr>
        <p:spPr>
          <a:xfrm>
            <a:off x="7278840" y="6322680"/>
            <a:ext cx="790200" cy="398880"/>
          </a:xfrm>
          <a:prstGeom prst="rect">
            <a:avLst/>
          </a:prstGeom>
          <a:noFill/>
          <a:ln cap="rnd" w="381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80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81520" y="20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059280" y="609480"/>
          <a:ext cx="2808000" cy="571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59280" y="609480"/>
                    <a:ext cx="2808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THANK YOU VERY MUCH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！</a:t>
            </a:r>
            <a:endParaRPr b="1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22093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60000"/>
              </a:lnSpc>
              <a:spcBef>
                <a:spcPts val="134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ccff"/>
                </a:solidFill>
                <a:latin typeface="Times New Roman"/>
              </a:rPr>
              <a:t>本章到此结束，</a:t>
            </a:r>
            <a:endParaRPr b="1" lang="en-US" sz="5400" spc="-1" strike="noStrike">
              <a:solidFill>
                <a:srgbClr val="66ccff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spcBef>
                <a:spcPts val="134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ccff"/>
                </a:solidFill>
                <a:latin typeface="Times New Roman"/>
              </a:rPr>
              <a:t>谢谢您的光临！</a:t>
            </a:r>
            <a:endParaRPr b="1" lang="en-US" sz="5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1" name="">
            <a:hlinkClick r:id="rId1" action="ppaction://hlinksldjump"/>
          </p:cNvPr>
          <p:cNvSpPr/>
          <p:nvPr/>
        </p:nvSpPr>
        <p:spPr>
          <a:xfrm>
            <a:off x="7380360" y="6322680"/>
            <a:ext cx="1095120" cy="398880"/>
          </a:xfrm>
          <a:prstGeom prst="rect">
            <a:avLst/>
          </a:prstGeom>
          <a:noFill/>
          <a:ln cap="rnd" w="381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8000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>
            <a:hlinkClick r:id="" action="ppaction://hlinkshowjump?jump=endshow"/>
          </p:cNvPr>
          <p:cNvSpPr/>
          <p:nvPr/>
        </p:nvSpPr>
        <p:spPr>
          <a:xfrm>
            <a:off x="5481720" y="6284520"/>
            <a:ext cx="790200" cy="398880"/>
          </a:xfrm>
          <a:prstGeom prst="rect">
            <a:avLst/>
          </a:prstGeom>
          <a:noFill/>
          <a:ln cap="rnd" w="381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8000"/>
                </a:solidFill>
                <a:latin typeface="Times New Roman"/>
                <a:ea typeface="隶书"/>
              </a:rPr>
              <a:t>结束放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057400" y="1219320"/>
            <a:ext cx="5867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ccff"/>
                </a:solidFill>
                <a:latin typeface="Times New Roman"/>
                <a:ea typeface="楷体_GB2312"/>
              </a:rPr>
              <a:t>2. </a:t>
            </a:r>
            <a:r>
              <a:rPr b="1" lang="zh-CN" sz="3200" spc="-1" strike="noStrike">
                <a:solidFill>
                  <a:srgbClr val="66ccff"/>
                </a:solidFill>
                <a:latin typeface="Times New Roman"/>
                <a:ea typeface="楷体_GB2312"/>
              </a:rPr>
              <a:t>实验器材</a:t>
            </a: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57400" y="236232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单片机仿真器一台，直流稳压电源一台，示波器一台，万用表一块，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DAC083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一块，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LM339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一块，面包板一块，导线若干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580920" y="1066320"/>
            <a:ext cx="3581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ccff"/>
                </a:solidFill>
                <a:latin typeface="Times New Roman"/>
                <a:ea typeface="楷体_GB2312"/>
              </a:rPr>
              <a:t>3. </a:t>
            </a:r>
            <a:r>
              <a:rPr b="1" lang="zh-CN" sz="3200" spc="-1" strike="noStrike">
                <a:solidFill>
                  <a:srgbClr val="66ccff"/>
                </a:solidFill>
                <a:latin typeface="Times New Roman"/>
                <a:ea typeface="楷体_GB2312"/>
              </a:rPr>
              <a:t>实验内容</a:t>
            </a: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05120" y="2133720"/>
            <a:ext cx="6705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测试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DAC083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的数字量输入和模拟量输出的关系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设计和调试一个产生三角波的程序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设计和调试一个产生方波的程序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905120" y="1066680"/>
            <a:ext cx="5867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ccff"/>
                </a:solidFill>
                <a:latin typeface="Times New Roman"/>
                <a:ea typeface="楷体_GB2312"/>
              </a:rPr>
              <a:t>4. </a:t>
            </a:r>
            <a:r>
              <a:rPr b="1" lang="zh-CN" sz="3200" spc="-1" strike="noStrike">
                <a:solidFill>
                  <a:srgbClr val="66ccff"/>
                </a:solidFill>
                <a:latin typeface="Times New Roman"/>
                <a:ea typeface="楷体_GB2312"/>
              </a:rPr>
              <a:t>实验步骤</a:t>
            </a: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2133720"/>
            <a:ext cx="6705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测试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DAC083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的数字量输入和模拟量输出的关系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设计和调试一个产生三角波的程序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设计和调试一个产生方波的程序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514600" y="57150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7-1  803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DAC083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的连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629080" y="22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600200" y="1371600"/>
          <a:ext cx="6629400" cy="401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371600"/>
                    <a:ext cx="6629400" cy="40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352680" y="990720"/>
            <a:ext cx="403884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7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　测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V</a:t>
            </a:r>
            <a:r>
              <a:rPr b="0" lang="zh-CN" sz="28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O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057400" y="1828800"/>
          <a:ext cx="6400800" cy="375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828800"/>
                    <a:ext cx="6400800" cy="37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581280" y="1219320"/>
            <a:ext cx="3733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ccff"/>
                </a:solidFill>
                <a:latin typeface="Times New Roman"/>
                <a:ea typeface="楷体_GB2312"/>
              </a:rPr>
              <a:t>5. </a:t>
            </a:r>
            <a:r>
              <a:rPr b="1" lang="zh-CN" sz="3200" spc="-1" strike="noStrike">
                <a:solidFill>
                  <a:srgbClr val="66ccff"/>
                </a:solidFill>
                <a:latin typeface="Times New Roman"/>
                <a:ea typeface="楷体_GB2312"/>
              </a:rPr>
              <a:t>思考和讨论</a:t>
            </a: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9680" y="2438280"/>
            <a:ext cx="624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7-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中，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DAC083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选口地址是否有重叠？上述三角波和方波的频率由哪些因素决定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>
            <a:hlinkClick r:id="rId1" action="ppaction://hlinksldjump"/>
          </p:cNvPr>
          <p:cNvSpPr/>
          <p:nvPr/>
        </p:nvSpPr>
        <p:spPr>
          <a:xfrm>
            <a:off x="7278840" y="6322680"/>
            <a:ext cx="790200" cy="398880"/>
          </a:xfrm>
          <a:prstGeom prst="rect">
            <a:avLst/>
          </a:prstGeom>
          <a:noFill/>
          <a:ln cap="rnd" w="381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8000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7.2  A/D</a:t>
            </a: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转换实验</a:t>
            </a: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	</a:t>
            </a:r>
            <a:endParaRPr b="1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657600" y="1980720"/>
            <a:ext cx="3124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ccff"/>
                </a:solidFill>
                <a:latin typeface="Times New Roman"/>
                <a:ea typeface="楷体_GB2312"/>
              </a:rPr>
              <a:t>1. </a:t>
            </a:r>
            <a:r>
              <a:rPr b="1" lang="zh-CN" sz="3200" spc="-1" strike="noStrike">
                <a:solidFill>
                  <a:srgbClr val="66ccff"/>
                </a:solidFill>
                <a:latin typeface="Times New Roman"/>
                <a:ea typeface="楷体_GB2312"/>
              </a:rPr>
              <a:t>实验目的</a:t>
            </a:r>
            <a:endParaRPr b="1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057400" y="2971800"/>
            <a:ext cx="66294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熟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DC0809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的内部结构和原理，熟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CS-5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对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DC0809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的引脚接线及编程方法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>
            <a:hlinkClick r:id="rId1" action="ppaction://hlinksldjump"/>
          </p:cNvPr>
          <p:cNvSpPr/>
          <p:nvPr/>
        </p:nvSpPr>
        <p:spPr>
          <a:xfrm>
            <a:off x="7380360" y="6322680"/>
            <a:ext cx="1095120" cy="398880"/>
          </a:xfrm>
          <a:prstGeom prst="rect">
            <a:avLst/>
          </a:prstGeom>
          <a:noFill/>
          <a:ln cap="rnd" w="381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8000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0T11:08:58Z</dcterms:created>
  <dc:creator>liwu</dc:creator>
  <dc:description/>
  <dc:language>en-US</dc:language>
  <cp:lastModifiedBy>li</cp:lastModifiedBy>
  <dcterms:modified xsi:type="dcterms:W3CDTF">2002-02-01T08:57:54Z</dcterms:modified>
  <cp:revision>12</cp:revision>
  <dc:subject/>
  <dc:title>第七章  实验 </dc:title>
</cp:coreProperties>
</file>